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7D1-0548-410B-80C2-5AF7D0FB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D63-FD26-4A11-9DF0-E4BA18A5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02A-F4D2-4675-9EA3-11441665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2DD-EB20-41EF-BC24-BA8BD8A7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792-A62A-46F1-8D67-7DEC8E6F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894-D8B4-4E6E-B34C-B5AA8A0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934-6A93-44EB-8EAF-2764B08D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350-D030-4AAA-8EC3-93A43249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954-133C-48B3-90F9-8E37772A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78A-A28F-4C42-8D99-499983B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589-A108-4EE7-943F-A8144A0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D24-30C7-4C61-AC18-3BAF5E9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DD9-8A64-4769-A000-63660DB082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roi, conducatori si evenimente din epoca medievala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: Pasca Io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ala: ,, Simion Balint” Copaceni, jud. Clu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a : a IV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MIRCEA CEL BATRA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5" descr="mirceacb.jpg"/>
          <p:cNvPicPr/>
          <p:nvPr/>
        </p:nvPicPr>
        <p:blipFill>
          <a:blip r:embed="rId1"/>
          <a:stretch/>
        </p:blipFill>
        <p:spPr>
          <a:xfrm>
            <a:off x="990720" y="1368360"/>
            <a:ext cx="30477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4191120" y="24382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e inmormantat la manastirea Coz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a mai renumita batalie a avut-o la Rov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LAD TE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Content Placeholder 4" descr="dracula.jpg"/>
          <p:cNvPicPr/>
          <p:nvPr/>
        </p:nvPicPr>
        <p:blipFill>
          <a:blip r:embed="rId1"/>
          <a:stretch/>
        </p:blipFill>
        <p:spPr>
          <a:xfrm>
            <a:off x="228600" y="1371600"/>
            <a:ext cx="3370320" cy="458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657600" y="1676160"/>
            <a:ext cx="5184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domn care a pedepsit crud nelegiuirile prin tragerea in te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mas faimos prin atacul de noapte in tabara turceasca de la Targov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ANCU DE HUNEDOA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evod al Transilvan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nzestrat armata cu Tun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rtat lupte antiotom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e inmormantat in Alba Iulia, in catedrala cato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Content Placeholder 8" descr="IANCUDE HUN.jpg"/>
          <p:cNvPicPr/>
          <p:nvPr/>
        </p:nvPicPr>
        <p:blipFill>
          <a:blip r:embed="rId1"/>
          <a:stretch/>
        </p:blipFill>
        <p:spPr>
          <a:xfrm>
            <a:off x="533520" y="1330200"/>
            <a:ext cx="33526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6" descr="STEFAN.jpg"/>
          <p:cNvPicPr/>
          <p:nvPr/>
        </p:nvPicPr>
        <p:blipFill>
          <a:blip r:embed="rId1"/>
          <a:stretch/>
        </p:blipFill>
        <p:spPr>
          <a:xfrm>
            <a:off x="436680" y="762120"/>
            <a:ext cx="2963880" cy="396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3352680" y="167652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FAN CEL M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al Moldov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n crestin, a construit foarte multe manasti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ungurii, polonii, cu turcii si tatar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8" descr="stefancm.jpg"/>
          <p:cNvPicPr/>
          <p:nvPr/>
        </p:nvPicPr>
        <p:blipFill>
          <a:blip r:embed="rId2"/>
          <a:stretch/>
        </p:blipFill>
        <p:spPr>
          <a:xfrm>
            <a:off x="5410080" y="3733920"/>
            <a:ext cx="14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IHAI"/>
          <p:cNvPicPr/>
          <p:nvPr/>
        </p:nvPicPr>
        <p:blipFill>
          <a:blip r:embed="rId1"/>
          <a:stretch/>
        </p:blipFill>
        <p:spPr>
          <a:xfrm>
            <a:off x="1600200" y="457200"/>
            <a:ext cx="201456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733920" y="1219320"/>
            <a:ext cx="4572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HAI VITE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st un mare conducator roman si poate fi considerat un erou deoarece a reusit pentru prima data sa uneasca cele trei tari romanesti : Tara Romaneasca, Moldova si Transilvania in 1600 chiar daca doar pentru un 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505320" y="5791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ursie Mormantul de la Tur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8" descr="DSC03182.JPG"/>
          <p:cNvPicPr/>
          <p:nvPr/>
        </p:nvPicPr>
        <p:blipFill>
          <a:blip r:embed="rId2"/>
          <a:stretch/>
        </p:blipFill>
        <p:spPr>
          <a:xfrm>
            <a:off x="5486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03Z</dcterms:created>
  <dc:creator>rodinaloredana</dc:creator>
  <dc:description/>
  <dc:language>en-US</dc:language>
  <cp:lastModifiedBy>Bugs Bunny</cp:lastModifiedBy>
  <dcterms:modified xsi:type="dcterms:W3CDTF">2010-10-03T17:22:05Z</dcterms:modified>
  <cp:revision>29</cp:revision>
  <dc:subject/>
  <dc:title>MIHAI VITEAZU</dc:title>
</cp:coreProperties>
</file>